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7B55-1A16-46E9-9B18-182FF03B0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F60C-5A38-43C6-9BD8-4BE062BBA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CD0A-519A-401C-AB8B-B32B494A5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5F72-307C-491C-9C7D-7D7074C67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F999-2ACA-4C46-8DCB-4B89C3A04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A720-DC56-4D72-8CE3-D0F0206B9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DA20-89DC-4E92-BB6D-5278FDABC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F727-4523-4518-81AC-D3BB7EE1A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EAA7-02B8-40E6-92D2-BC36ACC77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21BC-81CC-4058-A9CA-8825E7D9D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8D18-50C0-4BEC-9FD6-5398A5D9B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9AB28-1841-4CDD-8736-010F22DFAC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88A5A-78BF-48A9-97CF-DCE21EB105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8AC73-C002-4FF5-857D-5356019D78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480DD-C958-4F77-9D9B-146BF0E981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3C34D-F847-4B4B-B3E4-BF9A91D32F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D72A-485D-4277-8301-2C17D10F28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DC15E-3C7E-4612-9771-E2DD612BEC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895B6-F891-4F66-83B7-B169FB97F4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1870C-A7BA-4BEE-A638-AEC24FFDAC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42A04-E37A-48E8-9610-E3A5A5ACF8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D7C16-2EE0-41F7-83AA-3D28A1D7D3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6DE80-A9D3-421A-81A3-22A43EF638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AD169-C112-4779-ACAE-C74D4C20A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62C3-B80F-4C92-871E-89D28F520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7D8F-0DA9-441C-B5D9-ABB6A576A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BD9D-71F6-47FF-8A97-42B88D487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5140-8AF2-4C0A-99D3-07637F240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6A83-CD5F-49E8-95DB-4872A828D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C7C6-F30F-4382-90AE-62AD4A376C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2551-EBF6-4FD6-B831-C4D8B0747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C5E9-9672-4575-9EE2-61DFB1A0A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9F7D-BF90-4217-A7E7-CA3DE3D19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1822-6E53-497F-B6BF-79185D6D4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2182-90FE-4441-9DCE-BAD6463E8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8C27-CEFC-4AF9-BED6-9B45AD6CA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09B5-16AA-4396-B476-BFFEB871E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7AC6-4D0D-49AB-8CA8-70E84F9AA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54C5-E34A-4552-B9D2-F2133130D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1A54-20BC-4302-8D41-659A56998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1431-1055-4C98-92CA-022728F79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61BA-4251-43D9-8FB5-15183BFEB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D011-5ABE-4A22-93FC-74F625FAB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AD2D-0D6B-42AB-B0AC-B2EB1BF9D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9520" y="928800"/>
            <a:ext cx="390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tra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E1D1-AAF4-4405-B009-5F77B7973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6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8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FEE4-4D46-472D-BAC4-1522719FB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F9BF-C9CF-497E-8D84-61189E74A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82CC-2A0B-44B0-B373-D1E736B9C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7593-458E-4D28-97EC-56568387D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4C4B-1841-48A3-BB64-710DC5694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DB43-618D-4B7C-926D-A9A652238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6306-14F5-47EE-8BFD-1E48D537C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24E8-1ADF-411E-945B-AB495FC28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3E25-1C3B-4507-8162-3B26F3F3E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A504-0DB0-4528-B6B0-C0DFBC090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83BC-E636-4438-8EC8-71BBD3E22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79A0-3674-4125-B7C9-0B9DAB399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648000" y="4616280"/>
            <a:ext cx="2020320" cy="736200"/>
            <a:chOff x="648000" y="4616280"/>
            <a:chExt cx="2020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648000" y="5045400"/>
              <a:ext cx="2020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u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6880" y="4616280"/>
              <a:ext cx="105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u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39FD-24DB-4270-A838-16E633C60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0575-51EC-4E23-85F4-4462D48F8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AE1C-EB11-4E7A-9BE3-C48BCB49D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E4FA-90D5-40A4-BCE6-454B4A2EF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0D22-7705-43F8-99C6-D687EA999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480"/>
            <a:chOff x="3665520" y="5286240"/>
            <a:chExt cx="4780080" cy="40248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016600" y="538164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67A7-9664-4C11-A232-C72236B36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423680" y="451944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A7B8-2DA4-4F23-ACEE-6090DF380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C11D-5F63-4148-988A-FB2C7D13A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2734-7A75-4DFC-8904-8758F7B3A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B9D9-9B7C-4C91-9F30-F44954945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5E8A-9149-466E-B09F-2262EE5D7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1AF4-9211-4011-9C97-4EBC73F36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DA0A-084F-4AED-81ED-4AC1F196B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870A-A9B1-4DDC-9FF0-FC481A53D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AAC1-A37C-4779-9EF1-FA74C394A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2902-F012-4D48-A826-1796CB82A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ADA9-B253-434B-A4DB-1EB5DB242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EBC6-2D90-4238-9952-C705DF5AE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AEFD-CAFD-49F5-877B-6B087377E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5AC0-A17A-4AAF-8899-EDF85074D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F187-D9E9-4C74-99C6-BFED39B70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26A3-7167-4BCE-BE4C-0B966BA31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2386-45C9-41ED-BF3D-82E04587C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7810-827F-4438-ACCF-A13E204BE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2F49-A2FC-4E67-A4F1-F21952322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CC87-614A-4E98-B20F-E1B84BDDD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2F0C-8492-4E79-BED3-1E5DE574D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9F98-D954-491F-9C0A-8583F4D66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869F-8AF5-4B08-B90D-D05D57B2D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4FCF-6AC9-4BA2-9935-64C479E2A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6001-B3D7-47FD-B13E-615B4FAEE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62BC-6605-4F92-AD7D-8B7F157C8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3266-FB1B-45CE-9347-0F44DDE8E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9D02-9015-4321-8D72-D30C5B5DE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41A3-69CB-4E20-8604-78BB493CD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036C-8F21-4F0D-8C59-ABC50FE79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52A6-C62C-4943-AFE7-0C22E2416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into(tlm_generic_payload&amp; other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C6B0-81C5-4C4C-A6AB-1795F1F07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6AC9-AAD8-4E37-9D24-B31CED734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9BAD-CBE9-41AB-B12C-8FED2EF15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EA19-6C44-4D6A-8EE8-42B1E19AD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ADA6-26D8-4AD1-AEA3-534A892F3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53C8-AD8C-4BBB-B560-C9A5B649E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4E73-C5EF-4CB5-81D9-46EF55DCE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8C3F-D767-4EAA-AC3B-1913C75C6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A1A1-DA16-409C-9C22-4933A46BB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68B5-A6BB-49C9-A9AF-EED5C6EAA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1D50-E0F7-4D77-AA54-94D285FE0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60B5-D9A3-4CC2-BA4D-C40C003D6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3C7C-D778-48CC-BB02-B524FAA93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A0EF-A4C5-414E-A7F7-609528C7C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6C7C-1AB4-4F7B-A9A4-4EE41A67B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304920" y="1279440"/>
            <a:ext cx="8510400" cy="4157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A573-128E-4D98-BD78-511E1C342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9E06-DE90-4A0B-A4EA-721578091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2E3F-F37D-450F-966B-808D950D3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392040" y="857160"/>
            <a:ext cx="65210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new tlm_generic_payload( mem_mgr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4E9A-F45B-4EFB-8419-541FE3928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803F-BA16-42D3-BAC2-A49393431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861D-AE8A-4F71-88D5-8437EB3A8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A615-D6F4-49A3-A0D4-59DEF6161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86BF-9D13-4583-8F50-58E988756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53C0-85A2-4010-9EA0-FCCD77AB3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783A-9E98-4AC8-80B7-21AE6025E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C664-C69E-4A32-BFDD-60E4BF025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42F6-DB9C-46C4-8D64-720C256F9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FD6E-2BE1-428C-A00F-FCB9A8DA2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E7A7-C8C1-48AD-9441-51D6BCB04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74E0-F93A-4D57-AFD3-A8EAE58A9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3855-6F28-4010-BBB6-98767FBF1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7AA1-E26D-4DDC-A5B6-613449B0E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22A1-32C1-488F-9C60-10B0BF601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7BBE-C351-4893-BDA2-0228E6846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AD7A-35B3-41D6-BE63-B893035ED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5AC9-88E7-4154-BBBC-819630947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3F7F-9F0D-4EA7-812E-EA3FDE7B4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 </cp:lastModifiedBy>
  <cp:lastPrinted>2002-03-05T00:56:29Z</cp:lastPrinted>
  <dcterms:modified xsi:type="dcterms:W3CDTF">2008-06-06T08:52:13Z</dcterms:modified>
  <cp:revision>1580</cp:revision>
  <dc:subject/>
  <dc:title>TLM WG Status 0703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0917829</vt:r8>
  </property>
  <property fmtid="{D5CDD505-2E9C-101B-9397-08002B2CF9AE}" pid="3" name="_AuthorEmail">
    <vt:lpwstr>bart@CoWare.com</vt:lpwstr>
  </property>
  <property fmtid="{D5CDD505-2E9C-101B-9397-08002B2CF9AE}" pid="4" name="_AuthorEmailDisplayName">
    <vt:lpwstr>Bart Vanthournout</vt:lpwstr>
  </property>
  <property fmtid="{D5CDD505-2E9C-101B-9397-08002B2CF9AE}" pid="5" name="_EmailSubject">
    <vt:lpwstr>TLM-2.0 Presentation ja6.ppt</vt:lpwstr>
  </property>
</Properties>
</file>