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12A5B-0F0D-4090-802D-5943C1A721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DE373-F730-42B7-89DC-CB207D7196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77A47-DDAF-4321-9DD3-9D0BB936A4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5965C-5162-4268-8399-89E91B8F83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E9423-3980-4B0A-87AC-632C9F1576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EDB0E-A61E-47DC-A175-291DB4AD00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C1D2DF-B73C-47BB-9762-33B817E5F5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DF37EA-50BA-4B92-8A1F-B4438FB2E0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378E73-7B6B-480B-93B5-E3E8496C56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17E874-D8B0-4723-8D61-67C0F629A4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6C29D6-BC3D-4231-BCC6-A9540D19B3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F4E4A0-C814-4142-8B94-2E9A6DEB1B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31B770-D2C6-4522-A290-F144744221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369D63-09CC-42E3-9556-6BB440CD8F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6ACB0F-7162-44B9-A411-F50DA65B4D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F700B6-33EE-4290-9B1D-651334F45C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D26A31-3219-4C75-B2EF-BF776E82BF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E5CB5-9952-412D-9108-DEECEDBF34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Approximately Time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ies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172160" y="863640"/>
            <a:ext cx="5904720" cy="49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select_initiator.cpp: 2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new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select_initiator.cpp: 2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2_phase.cpp: 3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206360" y="860400"/>
            <a:ext cx="57373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2_phase.cpp: 47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select_initiator.cpp: 5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nb_transport_bw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select_initiator.cpp: 5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select_initiator.cpp: 5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Jack Donovan</cp:lastModifiedBy>
  <cp:lastPrinted>2008-06-04T18:30:41Z</cp:lastPrinted>
  <dcterms:modified xsi:type="dcterms:W3CDTF">2008-06-04T21:41:17Z</dcterms:modified>
  <cp:revision>88</cp:revision>
  <dc:subject/>
  <dc:title>AT Basic System Example</dc:title>
</cp:coreProperties>
</file>