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ECC9-E21F-48E8-AD59-5D8C65B66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B93F2-386A-4344-A7BE-0C0AEC4116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FC212-A78F-4F3A-8C47-3ACD96D116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44B2F-34A7-4DA3-B5B9-28B2103783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FF6FD-638F-48AE-8C63-88CC9D9714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A68E7-751A-4852-BFF2-1D3A15A643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9D4F7-4E5E-4086-B12B-E64ED8963A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1AA05-DA2F-4C7F-95D6-8DFFB27099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90D6C-5668-425B-A5C0-05AF0A6BB2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A14E4-A704-413D-9ABE-B28B6CAD35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E75F0-4353-4952-879A-149D19CDC7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75706-B4B5-4894-995E-169AD71F91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DCE58-0848-420E-BE63-53C1CD9E6C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A254-988D-4EA9-AF1F-274E394C1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6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7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4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1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6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0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1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"/>
            <p:cNvCxnSpPr>
              <a:stCxn id="28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endCxn id="28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7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9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0" name=""/>
            <p:cNvCxnSpPr>
              <a:stCxn id="28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3" name=""/>
            <p:cNvCxnSpPr>
              <a:stCxn id="29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9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5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6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0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4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8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7" idx="0"/>
            <a:endCxn id="13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40" idx="2"/>
            <a:endCxn id="14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40" idx="0"/>
            <a:endCxn id="14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45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6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8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49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2"/>
            <a:endCxn id="15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52" idx="0"/>
            <a:endCxn id="15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8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59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6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2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5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7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6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1"/>
            <a:endCxn id="236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39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0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42" idx="1"/>
            <a:endCxn id="236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5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Jack Donovan</cp:lastModifiedBy>
  <dcterms:modified xsi:type="dcterms:W3CDTF">2008-06-05T21:45:26Z</dcterms:modified>
  <cp:revision>77</cp:revision>
  <dc:subject/>
  <dc:title>AT Basic System Example</dc:title>
</cp:coreProperties>
</file>