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7410D-A354-4B1A-AB0E-D31C960C33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58949-4C61-4A27-895C-8738E32795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1FF14-2BFB-48C3-B775-EEEEDD5752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70C2F-BBDA-4109-97D6-B5738A3D0A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64C6B-418B-4E88-8F24-6FE40FC60F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23A2E-F010-477E-94F8-90F4B36E88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6CA10-10BA-4310-A1CB-142457F27A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6DED1-D4AF-4E7E-8965-43F23E95CE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50DB9-CE14-4D47-90D4-947BEF9EA6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838C0-673F-459E-8A8A-4223700E04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C22C9-A050-4D2E-8BEF-A19F9EA38D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D8C52-2B79-47D8-BC2C-946B1E2752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22DAE-6A03-416E-9E18-3EF5AE42CD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6DEFD-AA96-4011-A2B3-93D24B63CF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0C869-E9F6-4F92-A9B8-8FA30FC056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C76DB-3B36-4E54-BB62-1E2213843B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0401B-2A8A-46DB-BD0C-5D93CAEEEE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D19D2-37AA-4B58-9925-BAC50704ED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Jack Donovan</cp:lastModifiedBy>
  <dcterms:modified xsi:type="dcterms:W3CDTF">2009-05-04T21:26:45Z</dcterms:modified>
  <cp:revision>87</cp:revision>
  <dc:subject/>
  <dc:title>AT Basic System Example</dc:title>
</cp:coreProperties>
</file>