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0872-E5AE-45DF-9A43-F3468F0B9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9602A-B1EF-4F3A-99AF-C1843F8672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94ECA-D517-46C6-B3E8-132CC1DB04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C3777-2BA3-46B3-9919-95A61B1BC3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762E8-88F8-4291-A53F-9B62B6AA08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28A7F-CD11-4F38-BD95-B4FBD351A7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6E0E4-9E62-422D-8131-7D7A2D3524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9C926-A47B-4206-8F3B-0DC7CFF7D6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D004A-0418-4690-8356-2E7CBB19AD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57E45-55A5-4DBA-9B58-84E68579B3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F8247-F681-4C37-8B3A-A4E185E8DF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48C6D-737F-45EB-9782-4E83DB296B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DAB18-9FB1-47DA-85BE-4432712394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9EF7-CA06-4C87-9AEA-0B7CFB0E9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59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3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6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0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4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7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 </cp:lastModifiedBy>
  <dcterms:modified xsi:type="dcterms:W3CDTF">2009-02-07T17:01:47Z</dcterms:modified>
  <cp:revision>62</cp:revision>
  <dc:subject/>
  <dc:title>TLM2</dc:title>
</cp:coreProperties>
</file>