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2E273-8820-4D97-A633-A3B792756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404BD-2326-43B0-AAD3-FA061EC45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D7190-2CD9-4C2D-A83D-66919143D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B16DC-689D-4904-B891-9CE00FE55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e are lot more messages coming from CCI infrastructure code; the report includes only user messages (not from cci inf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CAC12-6237-4B52-9413-2CB5418A1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e are lot more messages coming from CCI infrastructure code; the report includes only user messages (not from cci inf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FA218-53C2-4101-B889-5A7C2600E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A73A0-80D8-4C5D-8FA7-6073D43038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F5CBE-B8E3-4BE7-B46F-8889AC742C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6F1DF-803D-47B9-8361-D57C52193B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63CED-885C-405B-8829-E7B177920D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31CF5-9573-49B7-825D-FFD0685836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DEFC1-B66B-4104-8D6B-144FD20EA1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905EB-89CF-4A7D-9AD5-EDDEF70D68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F78D6-1591-4C09-B21C-8034BD1087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BC1D7-A3FF-4297-9402-A37EFB1AC9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BF0ED-D4C9-4389-8C25-A2625F0BE9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B701A-0661-4FB3-ACA3-7F4C080F57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5C9ED-9951-4827-AC28-15DA5A2154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3FB28-8960-4A7C-B137-9ED4AA3F7F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arameter Value Change callback</a:t>
            </a:r>
            <a:br>
              <a:rPr sz="2600"/>
            </a:br>
            <a:br>
              <a:rPr sz="26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eshadri Chakravart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b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arameter Value Change callbac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requesting and responding to value change notifica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module creates couple of parameters and sets callbacks on both of th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case of param_1, the user module would allow value change without any constrai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case of param_2, the user module would reject value change unconditionall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quence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2" name="Picture 4" descr="cci_ex8.jpeg"/>
          <p:cNvPicPr/>
          <p:nvPr/>
        </p:nvPicPr>
        <p:blipFill>
          <a:blip r:embed="rId1"/>
          <a:stretch/>
        </p:blipFill>
        <p:spPr>
          <a:xfrm>
            <a:off x="138240" y="700200"/>
            <a:ext cx="8867520" cy="545760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17"/>
          <p:cNvSpPr/>
          <p:nvPr/>
        </p:nvSpPr>
        <p:spPr>
          <a:xfrm>
            <a:off x="2093760" y="5370480"/>
            <a:ext cx="6921720" cy="689040"/>
          </a:xfrm>
          <a:prstGeom prst="leftArrowCallout">
            <a:avLst>
              <a:gd name="adj1" fmla="val 14751"/>
              <a:gd name="adj2" fmla="val 25000"/>
              <a:gd name="adj3" fmla="val 123243"/>
              <a:gd name="adj4" fmla="val 3651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Observe that since write is rejec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for param_2 reject_write callback,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no other callbacks are triggere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</a:t>
            </a:r>
            <a:br>
              <a:rPr sz="3200"/>
            </a:b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ex08_Parameter_Value_Change_Callbacks.log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re_read_callback:sim_ip.param_1 (1) by sim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@Ctor: Value of sim_ip.param_1 is 1 (Default value Specified: 1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re_read_callback:sim_ip.param_2 (2) by sim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@Ctor: Value of sim_ip.param_2 is 2 (Default value Specified: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cfg_ip: @0 s, config_ip::end_of_elaboration: [EXTERNAL] Set value of sim_ip.param_1 to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re_write_callback:sim_ip.param_1 (1 -&gt; 10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ost_write_callback:sim_ip.param_1 (1 -&gt; 10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re_read_callback:sim_ip.param_1 (10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cfg_ip: @0 s, config_ip::end_of_elaboration: [EXTERNAL] Current value of sim_ip.param_1 is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cfg_ip: @0 s, config_ip::end_of_elaboration: [EXTERNAL] Set value of sim_ip.param_2 to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reject_pre_write_callback: Rejecting Value change on sim_ip.param_2 (2 -&gt; 20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Consolas"/>
                <a:ea typeface="Consolas"/>
              </a:rPr>
              <a:t>Warning: cfg_ip: @0 s, Caught exception: Error: /Accellera/CCI/SET_PARAM_FAILED: Value rejected by callback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file: &lt;removed by verify.pl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file: &lt;removed by verify.pl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0 s, typed_pre_read_callback:sim_ip.param_2 (2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cfg_ip: @0 s, config_ip::end_of_elaboration: [EXTERNAL] Current value of sim_ip.param_2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0 s, typed_pre_read_callback:sim_ip.param_1 (10) by sim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Dtor: Value of sim_ip.param_1 is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0 s, typed_pre_read_callback:sim_ip.param_2 (2) by sim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Dtor: Value of sim_ip.param_2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2-15T20:36:41Z</dcterms:modified>
  <cp:revision>149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5 20:36:41Z</vt:lpwstr>
  </property>
  <property fmtid="{D5CDD505-2E9C-101B-9397-08002B2CF9AE}" pid="5" name="TitusGUID">
    <vt:lpwstr>e91f1e81-ec8b-4b29-aa9d-61454af1454c</vt:lpwstr>
  </property>
</Properties>
</file>