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C0E50-24D6-47C6-94C2-A8BD0AF1D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B7253-3F9B-4C1A-8C93-C40FF8F54B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79EC4-332A-4695-A971-0D9A74C33A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4FCA1-5974-4FBA-8199-CA0DBAD693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2810D-7D40-458E-8140-F980945D6F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DB902-41CE-4C24-88E0-F2D028F677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47756-2A0A-407A-B55B-FE30BA421D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EAB03-E5BA-4911-93F2-4F70D33CD2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CC552-5B07-4B4A-8638-B6CAB1A637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946D4-D21E-4B64-85A2-7E6C08D178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E95D8-94CF-431B-8693-0C5A006680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636F8-B955-4353-8027-8D3571F224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82BFB-A397-4A80-AD06-4713FE8A18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F510C-7D55-493A-8765-664F14F071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977AB-8841-492C-961C-2D03FEB6D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CC20-488F-43C9-B89C-AA18B0E77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73B50-52B1-4B63-A0D9-6E8C0BA28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69A9-8829-4547-A456-2FEFF5F43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320F-5F1F-4707-BDB5-C46374FF0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C180C-A06C-47F9-93C4-F8E8072E6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999B-B393-4125-AD4C-F74D46559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FDD6-E538-4ABC-BC05-2B397E1D8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05914-2E5E-4B0C-8182-F97A6C1A3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8399-9654-4F14-8C30-3F07A0FEA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0CD1-AE00-47FE-9C24-368B20090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1A60-B280-4848-AF65-5AAD4E5EC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158AB-42A0-4D64-BF58-3C46803A4A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Hierarchical Override of Parameter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Override of Paramet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s of the present example is to demonstrate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Hierarchical_Override_of_Parameter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ed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17-02-05T19:45:47Z</cp:lastPrinted>
  <dcterms:modified xsi:type="dcterms:W3CDTF">2017-12-15T21:02:17Z</dcterms:modified>
  <cp:revision>45</cp:revision>
  <dc:subject/>
  <dc:title>Hierarchical_Override_of_Parameter_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1:02:17Z</vt:lpwstr>
  </property>
  <property fmtid="{D5CDD505-2E9C-101B-9397-08002B2CF9AE}" pid="5" name="TitusGUID">
    <vt:lpwstr>5dfb4e06-5d0b-41e9-9b26-1c1bb8b29aab</vt:lpwstr>
  </property>
</Properties>
</file>