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BDDBA-D81F-48A7-9EC8-EC3334EF03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2B333-3992-453F-86B0-5A9F27FA6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025E2-63D7-41EB-9EED-269F480FD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61B91-80CC-4F7E-9C03-3A7F86E13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E0DAA-CA17-4879-B95E-156C4CEF7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FCE33-EDA8-4C8D-81EA-7B0FA720A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1122F-D21B-40C2-82E1-3254F768C4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27B2C-DFBE-45D9-90E6-40A4034579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B5AD5-38DA-4EC1-AC85-F46AF3A2A6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46BED-CBE0-43F8-9D66-F4E6FC5D14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3CFC3-EC56-47CC-A10F-2EDE82680C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771E5-AAE2-479B-BD96-7021830521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F76FD-84BB-4B11-890D-32BCCAB9A8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68307-8646-414F-A40B-E00D16D862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D4E15-DF46-454B-B1C1-61F024545E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F0231-304C-42DD-90CB-9F7EBE637D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EE5A4-3C1B-4E6F-8649-DD4DF24C54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6B85E-9106-4F08-8B19-972AF22A62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C36B0-B275-40F7-9859-69055FEDC0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91408-C965-4FDC-A439-990A363F30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arch Predicate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OSCI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nal Podd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vember 201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Search Predicat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wner module simple_ip has CCI parameters of different data typ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module search_ip performs various searches and reports the matching parameter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is example, module search_ip performs the following parameter search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3960" indent="-248040" algn="just">
              <a:spcBef>
                <a:spcPts val="499"/>
              </a:spcBef>
              <a:buClr>
                <a:srgbClr val="00009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er value typ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3960" indent="-248040" algn="just">
              <a:spcBef>
                <a:spcPts val="499"/>
              </a:spcBef>
              <a:buClr>
                <a:srgbClr val="00009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ing value typ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3960" indent="-248040" algn="just">
              <a:spcBef>
                <a:spcPts val="499"/>
              </a:spcBef>
              <a:buClr>
                <a:srgbClr val="00009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value greater than or equal to 3 and smaller than 8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3960" indent="-248040" algn="just">
              <a:spcBef>
                <a:spcPts val="499"/>
              </a:spcBef>
              <a:buClr>
                <a:srgbClr val="00009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 name contains the character ‘t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br>
              <a:rPr sz="3200"/>
            </a:b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CCI parameters representing basic data types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1787400" y="1322280"/>
            <a:ext cx="1989360" cy="4366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3" name="Straight Arrow Connector 16"/>
          <p:cNvCxnSpPr>
            <a:stCxn id="92" idx="2"/>
          </p:cNvCxnSpPr>
          <p:nvPr/>
        </p:nvCxnSpPr>
        <p:spPr>
          <a:xfrm flipH="1">
            <a:off x="2775960" y="1758600"/>
            <a:ext cx="684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4" name="Folded Corner 41"/>
          <p:cNvSpPr/>
          <p:nvPr/>
        </p:nvSpPr>
        <p:spPr>
          <a:xfrm>
            <a:off x="3062160" y="2081160"/>
            <a:ext cx="3048120" cy="157644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bool&gt; bool_param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ci_param&lt;char&gt; char_param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unsigned char&gt; uchar_param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int_param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unsigned int&gt; uint_param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cci_param&lt;float&gt; float_param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ci_param&lt;double&gt; double_param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std::string&gt; string_param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ounded Rectangular Callout 44"/>
          <p:cNvSpPr/>
          <p:nvPr/>
        </p:nvSpPr>
        <p:spPr>
          <a:xfrm>
            <a:off x="449280" y="5342040"/>
            <a:ext cx="2173320" cy="58896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CCI parameter ‘Owner’ module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br>
              <a:rPr sz="3200"/>
            </a:b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The search_ip module which search sim_ip’s parameter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13"/>
          <p:cNvSpPr/>
          <p:nvPr/>
        </p:nvSpPr>
        <p:spPr>
          <a:xfrm>
            <a:off x="1787400" y="1143000"/>
            <a:ext cx="1989360" cy="4046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arch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8" name="Straight Arrow Connector 16"/>
          <p:cNvCxnSpPr>
            <a:stCxn id="97" idx="2"/>
          </p:cNvCxnSpPr>
          <p:nvPr/>
        </p:nvCxnSpPr>
        <p:spPr>
          <a:xfrm flipH="1">
            <a:off x="2775960" y="1547640"/>
            <a:ext cx="6840" cy="4384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9" name="Folded Corner 41"/>
          <p:cNvSpPr/>
          <p:nvPr/>
        </p:nvSpPr>
        <p:spPr>
          <a:xfrm>
            <a:off x="3062160" y="2792520"/>
            <a:ext cx="5753160" cy="41580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Integers only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bool integer_type_predicate(const cci_param_untyped_handle handle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Rounded Rectangular Callout 44"/>
          <p:cNvSpPr/>
          <p:nvPr/>
        </p:nvSpPr>
        <p:spPr>
          <a:xfrm>
            <a:off x="449280" y="5342040"/>
            <a:ext cx="2173320" cy="58896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Searches simple_ip’s parameter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Folded Corner 41"/>
          <p:cNvSpPr/>
          <p:nvPr/>
        </p:nvSpPr>
        <p:spPr>
          <a:xfrm>
            <a:off x="3062160" y="3514680"/>
            <a:ext cx="5753160" cy="41580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String only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bool string_type_predicate(const cci_param_untyped_handle handle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Folded Corner 41"/>
          <p:cNvSpPr/>
          <p:nvPr/>
        </p:nvSpPr>
        <p:spPr>
          <a:xfrm>
            <a:off x="3062160" y="4210200"/>
            <a:ext cx="5753160" cy="56988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Numbers greater that or equal to 3 and smaller than 85 only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l value_in_range_predicate(const cci_param_untyped_handle handle, double greater_eq, double lower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Folded Corner 41"/>
          <p:cNvSpPr/>
          <p:nvPr/>
        </p:nvSpPr>
        <p:spPr>
          <a:xfrm>
            <a:off x="3062160" y="5067360"/>
            <a:ext cx="5753160" cy="56988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Parameter name contains at least ‘t’ only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l name_contains_character_predicate( const cci_param_untyped_handle handle, const char character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Folded Corner 41"/>
          <p:cNvSpPr/>
          <p:nvPr/>
        </p:nvSpPr>
        <p:spPr>
          <a:xfrm>
            <a:off x="3062160" y="2068560"/>
            <a:ext cx="5753160" cy="41580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Original List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plays the original list of parameters in simple_ip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ex22_Search_Predicate.log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80880" y="927000"/>
            <a:ext cx="8686800" cy="52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ystemC Simula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bool_param is 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char_param is 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uchar_param is U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int_param is -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uint_param is 0xfeedf00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float_param is 3.1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double_param is 2.71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string_param is C++ Str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c_main: Begin Simulation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rch_ip: @0 s, execute: Original lis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bool_param = tru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char_param = 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double_param = 2.71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float_param = 3.14000010490417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int_param = -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string_param = "C++ String“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uchar_param = 8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uint_param = 427700634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5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8088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rch_ip: @0 s, execute: Integers on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char_param = 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int_param = -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uchar_param = 8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uint_param = 427700634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rch_ip: @0 s, execute: String on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string_param = "C++ String"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rch_ip: @0 s, execute: Numbers greater than or equal to 3 and smaller than 85 on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char_param = 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float_param = 3.14000010490417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rch_ip: @0 s, execute: Parameter name contains at least 't' on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float_param = 3.14000010490417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int_param = -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string_param = "C++ String"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uint_param = 427700634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c_main: End Simulation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2-17T15:52:42Z</dcterms:modified>
  <cp:revision>184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15:52:42Z</vt:lpwstr>
  </property>
  <property fmtid="{D5CDD505-2E9C-101B-9397-08002B2CF9AE}" pid="5" name="TitusGUID">
    <vt:lpwstr>9e508fab-0d4d-42f6-bb4e-875dc6a2e392</vt:lpwstr>
  </property>
</Properties>
</file>